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71EF-B582-4860-9FC8-95DF96B3F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CB9D-28A4-4529-9CCF-63053A2DF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5FD2-2E93-49CB-A73C-3F739A0D0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2FAA-9DFF-4123-9A38-2E15E31E9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AB4B-C39F-49C6-A92C-CBC1AA6E4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A2A8-E91B-4117-9F48-156C3CC91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6C94-7214-40EB-B4A7-459B6E78B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3597-30FD-403A-AC86-95E07A11B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7D87-85F4-4B27-B07A-4E07A23D2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CB6B-F9D8-487B-92BB-0C5F994A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38ED-CE61-4089-BB09-83AAC030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7EAC-3381-46E2-956E-9457CD49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CBD8D-2975-4B16-AD95-832CE75A0C7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Arial"/>
              </a:rPr>
              <a:t>Cardiopulmonary Resuscitation (CPR)</a:t>
            </a: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SASA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YOU SHOULD ALWAYS TILT THE HEAD BACK AND SQUEEZE THE NOSIE FO AI TO BE INSERTED TO THE LUNGS.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3059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THEN AFTE YOU MUST PUMP THE AIR THOUGH THE LUNGS USING THE PUMP THE HEART METHOD.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SQUIT DOWN IN PUSH HARD ON THE VITEMS CHEST 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YOU ALSO MUST CHECK THE PATIANTS BREATHING TO CHECK FO A PULSE.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16:55:43Z</dcterms:created>
  <dc:creator>004student</dc:creator>
  <dc:description/>
  <dc:language>en-US</dc:language>
  <cp:lastModifiedBy>004student</cp:lastModifiedBy>
  <dcterms:modified xsi:type="dcterms:W3CDTF">2009-01-12T16:58:31Z</dcterms:modified>
  <cp:revision>2</cp:revision>
  <dc:subject/>
  <dc:title>Cardiopulmonary Resuscitation (CPR) </dc:title>
</cp:coreProperties>
</file>